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8B5-342C-48F1-BD6F-E4D3B152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3BF-D39B-49A5-A57B-F4794A40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297-F42D-4E76-80D6-0264CC3D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FC6-0B4B-4641-8D71-EF12EEC6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88C4-20C4-483A-BA38-E2E2A4F0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089E-D8B3-4ED8-813D-0171274E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4594-119A-46D8-A333-94C031B4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4810-8F9A-43CB-98F3-4474E787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081C-DD27-479E-8074-07BFC3BC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1778-17E3-423D-B489-E5B0144F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ADBB-350D-45BA-9820-85D10911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014-B40B-48F7-92D1-8458226F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47A7-F3F9-4AD7-AE58-F206950D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E4E4-CE6D-492A-A3B0-0D8DFCB8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443E-6A02-47B9-93DF-E8D30082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6C02-BCCC-4033-9912-422F76C5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95FA-86E3-48FE-BDCE-F78C4372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88A5-3534-4404-871F-CD26BC9C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B533-3842-4ABB-B3FD-09EB3559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D502-99EB-4F97-9C42-9A81631F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D8C1-0FF2-4C89-8F3B-AB4849FA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56B6-C680-4367-8CEC-EB8A77D3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60C-F898-4163-8212-5E03ED39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1AAE-C9DF-488F-8A97-1D2C9CC0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C1BE4-EF0B-4572-9331-EC463FD0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BA6A-35D0-4E7C-8746-29CCDBAE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F217-5782-4160-ADD2-5445D0D7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2645-C282-4AAF-96E8-23F68350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0D1C-A686-49C8-A690-DBCA74C8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A953-AE2C-4094-AE68-A6A36B18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838-8F6B-4963-9D73-7890FF97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3A9-2914-4E8E-A208-A18554F2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65A-D7D5-45B4-A955-11BDB4FF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B26-6C63-404C-B2B6-3A723624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EEC-EE46-4907-81C3-971E5DA2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272-5ABD-4925-979E-86EDCAAF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8996-5CB3-4DE2-B1EB-780FC8EE81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1025-B3FF-446E-ACC3-220507A4AF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372C-48A3-4B91-9551-FF979A30F558}" type="slidenum">
              <a:rPr b="0" lang="en-US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9/Early_morning_on_the_Ganges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65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Early Belief System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66520" y="19807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Arial"/>
              </a:rPr>
              <a:t>Hinduism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6324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indu Symbols and Ar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76360" y="129528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Om or Aum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5120" y="22395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presents all existenc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oliest of all symb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5" name="Picture 5" descr="OM"/>
          <p:cNvPicPr/>
          <p:nvPr/>
        </p:nvPicPr>
        <p:blipFill>
          <a:blip r:embed="rId1"/>
          <a:stretch/>
        </p:blipFill>
        <p:spPr>
          <a:xfrm>
            <a:off x="0" y="0"/>
            <a:ext cx="2262240" cy="2239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1905120" y="365796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"The goal which all the Vedas declare, which all austerities aim at, and which men desire when they lead the life of continence … is OM. This syllable OM is indeed Brahman. Whosoever knows this syllable obtains all that he desires. This is the best support; this is the highest support. Whosoever knows this support is adored in the world of Brahma." </a:t>
            </a:r>
            <a:br>
              <a:rPr sz="1800"/>
            </a:b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~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Katha Upanishad I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Swastika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spiciousnes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n’s four part circl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ardinal points of the earth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laced on homes and animals for protection (Good Luck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9" name="Picture 7" descr="SWASTIKA"/>
          <p:cNvPicPr/>
          <p:nvPr/>
        </p:nvPicPr>
        <p:blipFill>
          <a:blip r:embed="rId1"/>
          <a:stretch/>
        </p:blipFill>
        <p:spPr>
          <a:xfrm>
            <a:off x="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oly Book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ed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panishads – part of Vedas, stories and philosoph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hagavad Gita – establishing a relationship with the etern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Temple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indus worship at temples and at private shrin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rines are might to reflect personal devo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hrines are often transported with famili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43400" y="56386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oly Place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480" y="1828800"/>
            <a:ext cx="5105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Arial"/>
              </a:rPr>
              <a:t>Ganges River – Sacred river that is viewed as a godd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Arial"/>
              </a:rPr>
              <a:t>Hindus bath in it to wash away si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Arial"/>
              </a:rPr>
              <a:t>Ashes are washed away to heave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Arial"/>
              </a:rPr>
              <a:t>Some take its water home in brass containe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7" descr="615px-Early_morning_on_the_Gan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60" y="2901960"/>
            <a:ext cx="4038480" cy="3940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Varanasi_temple"/>
          <p:cNvPicPr/>
          <p:nvPr/>
        </p:nvPicPr>
        <p:blipFill>
          <a:blip r:embed="rId3"/>
          <a:stretch/>
        </p:blipFill>
        <p:spPr>
          <a:xfrm>
            <a:off x="0" y="6480"/>
            <a:ext cx="40910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16320" y="1695240"/>
            <a:ext cx="4276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5050"/>
                </a:solidFill>
                <a:latin typeface="Arial Black"/>
              </a:rPr>
              <a:t>Additional Term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43400" y="3047760"/>
            <a:ext cx="47800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harma – living a righteous lif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Yoga – meditation dedicated to transcending this world of illus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80" name="Picture 5" descr="hindu_temple_idol_worship"/>
          <p:cNvPicPr/>
          <p:nvPr/>
        </p:nvPicPr>
        <p:blipFill>
          <a:blip r:embed="rId1"/>
          <a:stretch/>
        </p:blipFill>
        <p:spPr>
          <a:xfrm>
            <a:off x="0" y="1695600"/>
            <a:ext cx="41814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129528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Aryans transform India</a:t>
            </a:r>
            <a:endParaRPr b="0" lang="en-US" sz="40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2285640"/>
            <a:ext cx="4267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ove from Caspian Sea to India – (1500 BCE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nly major artifact remaining is the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Vedas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(Sacred text of prayers, songs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y were taller and paler then native India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7" name="Picture 5" descr="probabale%2520movement%2520of%2520aryans%2520into%2520india"/>
          <p:cNvPicPr/>
          <p:nvPr/>
        </p:nvPicPr>
        <p:blipFill>
          <a:blip r:embed="rId1"/>
          <a:stretch/>
        </p:blipFill>
        <p:spPr>
          <a:xfrm>
            <a:off x="0" y="2895480"/>
            <a:ext cx="4495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The Cast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pacted all areas of lif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evel determined your care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ust marry within your cast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251f"/>
                </a:solidFill>
                <a:latin typeface="Arial Black"/>
              </a:rPr>
              <a:t>A way to think of Cast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447560"/>
            <a:ext cx="8305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2" name="Picture 5" descr="C:\Users\Kuenzi\AppData\Local\Microsoft\Windows\Temporary Internet Files\Content.IE5\NILPC7UF\MCj04356260000[1].wmf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51814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251f"/>
                </a:solidFill>
                <a:latin typeface="Arial"/>
              </a:rPr>
              <a:t>Brahmins (priests) = Mouth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32560" y="350532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251f"/>
                </a:solidFill>
                <a:latin typeface="Arial"/>
              </a:rPr>
              <a:t>Rulers &amp; Warriors = Arm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Picture 8" descr="C:\Users\Kuenzi\AppData\Local\Microsoft\Windows\Temporary Internet Files\Content.IE5\0F511Y03\MMj03566690000[1].gif"/>
          <p:cNvPicPr/>
          <p:nvPr/>
        </p:nvPicPr>
        <p:blipFill>
          <a:blip r:embed="rId2"/>
          <a:stretch/>
        </p:blipFill>
        <p:spPr>
          <a:xfrm>
            <a:off x="8077320" y="5608800"/>
            <a:ext cx="1066680" cy="1249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5343120" y="5029200"/>
            <a:ext cx="37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251f"/>
                </a:solidFill>
                <a:latin typeface="Arial"/>
              </a:rPr>
              <a:t>Peasants &amp; traders = Leg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850680" y="60958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251f"/>
                </a:solidFill>
                <a:latin typeface="Arial"/>
              </a:rPr>
              <a:t>Laborers = Fee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186240" y="639612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251f"/>
                </a:solidFill>
                <a:latin typeface="Arial"/>
              </a:rPr>
              <a:t>Untouchab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1904760"/>
            <a:ext cx="49528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 Black"/>
              </a:rPr>
              <a:t>A Caste System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514600" y="1143000"/>
            <a:ext cx="6629400" cy="5715000"/>
            <a:chOff x="2514600" y="1143000"/>
            <a:chExt cx="6629400" cy="5715000"/>
          </a:xfrm>
        </p:grpSpPr>
        <p:sp>
          <p:nvSpPr>
            <p:cNvPr id="141" name="Pyr1"/>
            <p:cNvSpPr/>
            <p:nvPr/>
          </p:nvSpPr>
          <p:spPr>
            <a:xfrm>
              <a:off x="5094360" y="1143000"/>
              <a:ext cx="1486080" cy="1266840"/>
            </a:xfrm>
            <a:custGeom>
              <a:avLst/>
              <a:gdLst>
                <a:gd name="textAreaLeft" fmla="*/ 371520 w 1486080"/>
                <a:gd name="textAreaRight" fmla="*/ 1114560 w 1486080"/>
                <a:gd name="textAreaTop" fmla="*/ 692280 h 1266840"/>
                <a:gd name="textAreaBottom" fmla="*/ 120816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" name="Pyr2"/>
            <p:cNvSpPr/>
            <p:nvPr/>
          </p:nvSpPr>
          <p:spPr>
            <a:xfrm>
              <a:off x="4233960" y="2409840"/>
              <a:ext cx="3198960" cy="14860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Warriors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" name="Pyr3"/>
            <p:cNvSpPr/>
            <p:nvPr/>
          </p:nvSpPr>
          <p:spPr>
            <a:xfrm>
              <a:off x="3382920" y="3895920"/>
              <a:ext cx="4900680" cy="14842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Peasants &amp; </a:t>
              </a:r>
              <a:r>
                <a:rPr b="0" i="1" lang="en-US" sz="1800" spc="-1" strike="noStrike">
                  <a:solidFill>
                    <a:srgbClr val="5f5f5f"/>
                  </a:solidFill>
                  <a:latin typeface="Arial"/>
                </a:rPr>
                <a:t>Shudras</a:t>
              </a: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 (non-Aryan workers)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" name="Pyr4"/>
            <p:cNvSpPr/>
            <p:nvPr/>
          </p:nvSpPr>
          <p:spPr>
            <a:xfrm>
              <a:off x="2514600" y="5372280"/>
              <a:ext cx="6629400" cy="1485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Untouchables – those with unclean jobs (garbage collection, gravediggers . . .)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6248520" y="1600200"/>
            <a:ext cx="268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Brahmins or priest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676520" y="33526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- Do we have a caste system?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- Discuss with a partner/shar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95760" y="1424160"/>
            <a:ext cx="541008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The Origins of Hinduism</a:t>
            </a:r>
            <a:endParaRPr b="0" lang="en-US" sz="40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ulted from the blending of Aryan and non-Aryan belief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 single found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habharata – epic of Aryans, non-Aryans and their god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ishonor is worse than Death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9" name="Picture 5" descr="Hinduism"/>
          <p:cNvPicPr/>
          <p:nvPr/>
        </p:nvPicPr>
        <p:blipFill>
          <a:blip r:embed="rId1"/>
          <a:stretch/>
        </p:blipFill>
        <p:spPr>
          <a:xfrm>
            <a:off x="0" y="0"/>
            <a:ext cx="27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agadhaicon7nb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0" y="16765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induism Grow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28440" y="2819520"/>
            <a:ext cx="7086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oal is to liberate the soul from illusions, disappointment &amp; mistak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Moksha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– a state of perfect understand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Atman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– individual soul (Self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Brahman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– world soul that unites all atman (all force in universe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3" name="Picture 5" descr="upanishads_easwaren"/>
          <p:cNvPicPr/>
          <p:nvPr/>
        </p:nvPicPr>
        <p:blipFill>
          <a:blip r:embed="rId1"/>
          <a:stretch/>
        </p:blipFill>
        <p:spPr>
          <a:xfrm>
            <a:off x="0" y="0"/>
            <a:ext cx="1892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Achieving Moksha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soul is reincarnated until moksha is achiev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Karma – (the good or bad of the soul) impacts reincarn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rahman is often viewed as three gods: Brahma-creator, Vishnu-protector &amp; Shiva-destroy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09320" y="266688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Gods and Path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09320" y="342864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ree Path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th of right think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th of right ac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th of religious devo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induism lead to Buddhism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8" name="Picture 5" descr="Brahma - the creator"/>
          <p:cNvPicPr/>
          <p:nvPr/>
        </p:nvPicPr>
        <p:blipFill>
          <a:blip r:embed="rId1"/>
          <a:stretch/>
        </p:blipFill>
        <p:spPr>
          <a:xfrm>
            <a:off x="0" y="0"/>
            <a:ext cx="181296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vishnu"/>
          <p:cNvPicPr/>
          <p:nvPr/>
        </p:nvPicPr>
        <p:blipFill>
          <a:blip r:embed="rId2"/>
          <a:stretch/>
        </p:blipFill>
        <p:spPr>
          <a:xfrm>
            <a:off x="1828800" y="0"/>
            <a:ext cx="3095640" cy="266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shiva_lingam1"/>
          <p:cNvPicPr/>
          <p:nvPr/>
        </p:nvPicPr>
        <p:blipFill>
          <a:blip r:embed="rId3"/>
          <a:stretch/>
        </p:blipFill>
        <p:spPr>
          <a:xfrm>
            <a:off x="4876920" y="0"/>
            <a:ext cx="2166840" cy="2819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rama310"/>
          <p:cNvPicPr/>
          <p:nvPr/>
        </p:nvPicPr>
        <p:blipFill>
          <a:blip r:embed="rId4"/>
          <a:stretch/>
        </p:blipFill>
        <p:spPr>
          <a:xfrm>
            <a:off x="6959520" y="0"/>
            <a:ext cx="2184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23:42:00Z</dcterms:created>
  <dc:creator>Gail Kuenzi</dc:creator>
  <dc:description/>
  <dc:language>en-US</dc:language>
  <cp:lastModifiedBy>Kuenzi</cp:lastModifiedBy>
  <dcterms:modified xsi:type="dcterms:W3CDTF">2012-10-11T01:42:22Z</dcterms:modified>
  <cp:revision>14</cp:revision>
  <dc:subject/>
  <dc:title>Early Belief Systems</dc:title>
</cp:coreProperties>
</file>